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419-DD69-4934-A7C9-2301A078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8FD-5DAD-4525-81CB-338F12D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07B-4422-4788-80D2-4937867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916-204F-40C6-BF92-431336CF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579-AF55-4825-8D3D-0F9D1870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D08-7CB0-4775-B380-4DDAE22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A16-F4A6-4C8D-9F3C-CBB55B1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E89-2CC5-4271-B923-AD8ABA1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C2B-D38B-4D48-BDB9-0908F00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FAD-05A5-4EB1-B602-6428A10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ABF-BD32-49A1-88E6-CFE1C86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D55-3797-431E-AE39-DD2FB95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07E-C680-4851-9ED1-B13E71485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505320"/>
            <a:ext cx="8153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3333cc"/>
                </a:solidFill>
                <a:latin typeface="Calibri"/>
                <a:cs typeface="Cordia New"/>
              </a:rPr>
              <a:t>กลุ่มที่ </a:t>
            </a:r>
            <a:r>
              <a:rPr b="1" lang="en-US" sz="7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สมาชิกกลุ่มที่ </a:t>
            </a: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762120"/>
          <a:ext cx="7772400" cy="5559480"/>
        </p:xfrm>
        <a:graphic>
          <a:graphicData uri="http://schemas.openxmlformats.org/drawingml/2006/table">
            <a:tbl>
              <a:tblPr/>
              <a:tblGrid>
                <a:gridCol w="644760"/>
                <a:gridCol w="2409840"/>
                <a:gridCol w="2341440"/>
                <a:gridCol w="2376360"/>
              </a:tblGrid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ที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ชื่อ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-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ตำแหน่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สังกัด หน่วย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ศรีสนิ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ทรมณ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ิเชฏฐ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าลามเกษ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การศึกษา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คณะมนุษยศาสตร์และสังคมศาส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กฤตย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กนิษฐ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ิด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เอกนรินทร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เอกอริยะศิร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ช่วยอธิการบดีฝ่ายวิชาการ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วิทยาเขตปัตตาน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วิภาพรร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อินนุรักษ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ักวิชาการอุดมศึกษ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สงขลานครินท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เพ็ญศิร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นภีรงค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รองคณบดีฝ่ายวิชา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บัณฑิตวิทยาล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นเรศว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นางเจริญใ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กุลดิล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ดุงศักดิ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ขสอา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ู้อำนวยการโครงการสหกิจศึกษาและพัฒนาอาชี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ด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พัชร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ประเศรษฐสุ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วลัยลักษณ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รั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ฉัตรด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ชัยวัฒน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ุภัควรกุ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ประยงค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หัตถพรห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อาจารย์ธนัณชั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สิงห์มาตย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ผศ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ea typeface="Angsan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บุญชน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Cordia New"/>
                        </a:rPr>
                        <a:t>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Cordia New"/>
                        </a:rPr>
                        <a:t>ยีสารพัฒน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Browallia New"/>
                          <a:cs typeface="Angsana New"/>
                        </a:rPr>
                        <a:t>มหาวิทยาลัยมหาสารคา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cc"/>
                </a:solidFill>
                <a:latin typeface="Calibri"/>
                <a:cs typeface="Angsana New"/>
              </a:rPr>
              <a:t>การพัฒนาหลักสูตรและการจัดกระบวนการเรียนการสอ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เกณฑ์ 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TQ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ปรับปรุงหลักสูตรตามกรอบ สกอ</a:t>
            </a:r>
            <a:r>
              <a:rPr b="0" lang="th-TH" sz="3200" spc="-1" strike="noStrike">
                <a:solidFill>
                  <a:srgbClr val="3333cc"/>
                </a:solidFill>
                <a:latin typeface="Calibri"/>
                <a:ea typeface="Cord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จัดการหลักสูตรจากสภาวิชาชีพต่างๆ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บูรณาการรายวิชา และกระบวนการจัดการเรียนการสอนแบบบูรณากา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การกำหนดอัตลักษณ์ของสาขาวิชาและหลักสูต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Calibri"/>
                <a:cs typeface="Cordia New"/>
              </a:rPr>
              <a:t>บริบทสังคม เศรษฐกิจ เทคโนโลยี และความมั่นคงทางการเมืองที่เปลี่ยนแปลงตลอดเวลาทั้งในประเทศและภายนอกประเท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23:14Z</dcterms:created>
  <dc:creator>user</dc:creator>
  <dc:description/>
  <dc:language>en-US</dc:language>
  <cp:lastModifiedBy>user</cp:lastModifiedBy>
  <dcterms:modified xsi:type="dcterms:W3CDTF">2010-07-21T08:20:45Z</dcterms:modified>
  <cp:revision>11</cp:revision>
  <dc:subject/>
  <dc:title>Slide 1</dc:title>
</cp:coreProperties>
</file>